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A4A8-3CE6-4052-AE99-BD6AC645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B50F-8A2C-48E4-A079-08B4BC29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5C31-9A59-4093-83F8-28723B74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6007-B56E-486C-9289-43CA8E39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5894-147A-419B-A342-DDF875E1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D698-EE63-4AB8-A295-26DA0E76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4034-E250-4CCF-B693-8E3B92C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13C8-976B-48D6-8066-4D818394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750-7DB6-4802-830B-12611ADA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BA30-64CB-4E07-ADAF-1AFDF17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67AD-377F-43A9-A8D4-04263F4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F8C1-0DDA-4CB2-8AEC-E3DC1F08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D58D-57A9-4FE7-AC2A-BF049109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AF63-C78C-4017-864D-B2900E7B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92D7-8C5F-48CF-BC09-5F1D2266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2141-2CDF-42E1-B55E-1055B6E8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A2CD-3FCB-40DA-B11B-E60B4340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C8A6-FC09-4345-AF7F-3189CC34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1FAC-B54D-4D46-A121-A684224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8A66-727B-49ED-B453-99FA4C84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61F6-2734-4844-A460-68EB0133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3659-6E42-49F6-9EB8-F95AD98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0017-AD89-4468-AB35-299E9913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3296-3CC2-409A-B7C7-CAF5B0AC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DBFD-47D1-4FD2-8803-7DF8DD16A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C419-4558-49FE-BA54-6D533B35D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7dd64"/>
                </a:solidFill>
                <a:latin typeface="Arial"/>
              </a:rPr>
              <a:t>Britney Spears: the histo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Ben Thorn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ma Jean Fo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é en 1934 une morte 1966, elle était la mère de James Sp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fille de William et Lexi Fo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nett O Field Bri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était né en 1919 et mort 1978, il était père de Lynn Brid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était fils de Joel et Aneline Po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llian Wool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é en 1924 et mourut 1993, il était père de Lynne Brid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trace de la mère ou le 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P.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é en 1952, il est le père de Britney Jean Sp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le fils de Juin et Emma S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nne Bri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é en 1956, elle est la Mère de Britney Jean Spea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est la fille de Barnett et Lily B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5906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ney Jean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 Décembre 2 1981, elle est la mère des enfants inconn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le est le fils de James et Lynn Spears et est actuellement sous son père soins en raison de problèmes de dr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962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ritney Spears "arbre de famille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 G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Fo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 May Thomp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el Bri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line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Austin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é en 1930 et mourut l'année inconnue et fut le père de James P. Sp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est le fils de Juin et de la Nouvelle S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8:14:20Z</dcterms:created>
  <dc:creator>thornerben</dc:creator>
  <dc:description/>
  <dc:language>en-US</dc:language>
  <cp:lastModifiedBy>thornerben</cp:lastModifiedBy>
  <dcterms:modified xsi:type="dcterms:W3CDTF">2011-12-09T15:15:20Z</dcterms:modified>
  <cp:revision>3</cp:revision>
  <dc:subject/>
  <dc:title>Britney Spears: the history</dc:title>
</cp:coreProperties>
</file>